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applause.wav" ContentType="audio/x-wav"/>
  <Override PartName="/ppt/media/whoosh.wav" ContentType="audio/x-wav"/>
  <Override PartName="/ppt/media/image8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coin.wav" ContentType="audio/x-wav"/>
  <Override PartName="/ppt/media/image11.png" ContentType="image/png"/>
  <Override PartName="/ppt/media/wind.wav" ContentType="audio/x-wav"/>
  <Override PartName="/ppt/media/explode.wav" ContentType="audio/x-wav"/>
  <Override PartName="/ppt/media/image7.jpeg" ContentType="image/jpeg"/>
  <Override PartName="/ppt/media/camera.wav" ContentType="audio/x-wav"/>
  <Override PartName="/ppt/media/image9.jpeg" ContentType="image/jpeg"/>
  <Override PartName="/ppt/media/image1.jpeg" ContentType="image/jpeg"/>
  <Override PartName="/ppt/media/image2.jpeg" ContentType="image/jpeg"/>
  <Override PartName="/ppt/media/drumroll.wav" ContentType="audio/x-wav"/>
  <Override PartName="/ppt/media/image3.jpeg" ContentType="image/jpeg"/>
  <Override PartName="/ppt/media/cashreg.wav" ContentType="audio/x-wav"/>
  <Override PartName="/ppt/media/hamm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11C-5628-45FC-8718-18792F22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45A-1E57-4781-A01F-E6943B8C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DC7-12A8-4C97-9225-275DB3AD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618-2693-4B7B-A417-C15637AB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084F-59B6-4F48-9F11-9252E16A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C98D-190B-45DA-BE23-1F25CD3A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3E61-8D72-400A-83A1-383F6069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503-F054-43B3-B422-87BD1D8E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0AAF-05BB-4F63-B4AC-C8C9E735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8255-3295-4737-B4AF-6D610C3C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B86E-6F5D-4BCB-829F-EBA16BE3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BAD-18D5-4A3C-A0A9-6F133C67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D294-7472-44B0-BF36-F480E12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C053-E748-4FAE-8D03-F1D9B438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AA5D-C1BA-4D51-B398-70A5BC48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3F40-991A-4521-B403-73ECA3E1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E15D-F8C5-45CD-A701-A915B8A8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C30-FD39-405C-8ABD-86DCED37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9FE-9F3E-40EB-8A42-C1087BAA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2DF-B3A4-48C4-973A-A37109F6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57A-613F-4FCA-884D-A8DE40D1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A7F-22BB-4F49-88BD-46F7FBB7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4E5-9FDD-49F3-9B8F-3EDBB098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A0D-7B57-4EAF-BA68-5F905A7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4270-2463-4C30-AF2E-98A14F8C6C9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0BEF-5A42-46B4-8F5B-7D5AD674607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Year was i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Diana Kolaszewsk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5000">
    <p:comb dir="vert"/>
    <p:sndAc>
      <p:stSnd>
        <p:snd r:embed="rId1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2362320"/>
            <a:ext cx="114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D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c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m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53080" y="4038120"/>
            <a:ext cx="24386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Bingo was first played in North Americ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10000">
    <p:comb dir="vert"/>
    <p:sndAc>
      <p:stSnd>
        <p:snd r:embed="rId2" name="coin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7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7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1244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age Italic"/>
              </a:rPr>
              <a:t>Januar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42667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nes Gonxha Bojaxhiu Ans, later known as Mother Theresa, starts her missionary work among the poorest people in Ind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4038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4246"/>
            </a:gs>
            <a:gs pos="50000">
              <a:srgbClr val="3c919a"/>
            </a:gs>
            <a:gs pos="100000">
              <a:srgbClr val="1b42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914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FEB  R UA R 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828800" y="38088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. Valentines Day Massacre-7 gangsters killed in Chica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petition between gangster rivals Al "Scarface" Capone and George "Bugs" Mor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11812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  <p:sndAc>
      <p:stSnd>
        <p:snd r:embed="rId2" name="explod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rohibi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00600" y="35049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It was the law, no alcohol at all!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10000">
    <p:comb dir="vert"/>
    <p:sndAc>
      <p:stSnd>
        <p:snd r:embed="rId2" name="hammer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8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4bbe"/>
            </a:gs>
            <a:gs pos="100000">
              <a:srgbClr val="af27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f273e"/>
                </a:solidFill>
                <a:latin typeface="Forte"/>
              </a:rPr>
              <a:t>March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410080" y="2742840"/>
            <a:ext cx="3200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bert Hoover inaugurated as 31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presid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4000320" cy="38098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d"/>
    <p:sndAc>
      <p:stSnd>
        <p:snd r:embed="rId2" name="applause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24480" y="838080"/>
            <a:ext cx="2362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a6448"/>
                </a:solidFill>
                <a:uFillTx/>
                <a:latin typeface="Eurostile"/>
              </a:rPr>
              <a:t>April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 Yankees become the first baseball team to wear uniform numb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abe Ruth was #3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495680" cy="3530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horz"/>
    <p:sndAc>
      <p:stSnd>
        <p:snd r:embed="rId2" name="whoosh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indefinite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indefinite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8120" y="51055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14195"/>
                </a:solidFill>
                <a:latin typeface="Castellar"/>
              </a:rPr>
              <a:t>May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irst Academy Awards ceremony was held in Hollywoo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029200" cy="30895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  <p:sndAc>
      <p:stSnd>
        <p:snd r:embed="rId3" name="camera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57913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ugu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irship flight around Earth was completed by Graf Zeppelin from German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8000">
    <p:comb dir="vert"/>
    <p:sndAc>
      <p:stSnd>
        <p:snd r:embed="rId2" name="wind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ctober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lack Tues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7010280" cy="30481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ock Market Crashes and Triggers The Great Depress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10000">
    <p:cover dir="d"/>
    <p:sndAc>
      <p:stSnd>
        <p:snd r:embed="rId3" name="cashreg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8:09Z</dcterms:created>
  <dc:creator>Owner</dc:creator>
  <dc:description/>
  <dc:language>en-US</dc:language>
  <cp:lastModifiedBy>Owner</cp:lastModifiedBy>
  <dcterms:modified xsi:type="dcterms:W3CDTF">2011-10-05T02:59:45Z</dcterms:modified>
  <cp:revision>10</cp:revision>
  <dc:subject/>
  <dc:title>What Year was it?</dc:title>
</cp:coreProperties>
</file>